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63F4-7983-4BE9-9F73-6018460C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F98-9C6D-4CCA-9B08-2B6A030E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F78-0527-427D-9F37-12E9C7B6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3F2-3572-486E-8562-AEBADB0D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062-3EF7-4E04-9085-A27D65E6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EBF-2EB4-432C-8727-7D57B91D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C93-99CB-4425-9A04-0F186DE3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57E-3C5D-4572-AA81-DC091CA7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40E-4A5F-47C3-A95C-E6BE7BA9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CFA-18FF-468F-B161-A06222A5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120-C752-45FB-AC9E-DDC49764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B7F-4A18-4AF8-A5F8-9BE6A6B1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BA6D9-274D-40B1-AFE4-7410F18A74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3C754-233B-401C-851C-7C998C897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840" y="0"/>
          <a:ext cx="4572000" cy="3429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4572000" y="1440"/>
          <a:ext cx="4572000" cy="3429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3414600"/>
          <a:ext cx="4572000" cy="3429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572000" y="3414600"/>
          <a:ext cx="4572000" cy="3429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" name="Straight Connector 8"/>
          <p:cNvSpPr/>
          <p:nvPr/>
        </p:nvSpPr>
        <p:spPr>
          <a:xfrm>
            <a:off x="4572000" y="1440"/>
            <a:ext cx="15840" cy="684216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0"/>
          <p:cNvSpPr/>
          <p:nvPr/>
        </p:nvSpPr>
        <p:spPr>
          <a:xfrm>
            <a:off x="15840" y="3430440"/>
            <a:ext cx="9128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0:48:29Z</dcterms:created>
  <dc:creator>Caroline Roth</dc:creator>
  <dc:description/>
  <dc:language>en-US</dc:language>
  <cp:lastModifiedBy>Caroline Roth</cp:lastModifiedBy>
  <cp:lastPrinted>2011-03-22T00:55:43Z</cp:lastPrinted>
  <dcterms:modified xsi:type="dcterms:W3CDTF">2011-03-24T03:15:47Z</dcterms:modified>
  <cp:revision>2</cp:revision>
  <dc:subject/>
  <dc:title>Slide 1</dc:title>
</cp:coreProperties>
</file>